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2.wmf" ContentType="image/x-wmf"/>
  <Override PartName="/ppt/media/image7.jpeg" ContentType="image/jpeg"/>
  <Override PartName="/ppt/media/image8.wmf" ContentType="image/x-wmf"/>
  <Override PartName="/ppt/media/image10.gif" ContentType="image/gif"/>
  <Override PartName="/ppt/media/image13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060E-FC51-465D-8070-03EA16B78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651B-4E36-4604-8EFB-8CF1C27E1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B83B-70CF-42D8-AE8C-4070AFC7C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45F9-4C97-4B70-89E3-9356E989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EC96-1E79-485D-80CB-FD7325267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C0E5-49A3-4E51-B7C9-BB603CCC2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849E-B46F-4FAC-B8D9-CB02E59E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71F8-D059-4ACB-9ED0-8C2FA5CA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1947-9E7C-4E7F-BA9D-E263D6F4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93A1-8B9F-4908-A12C-3B9F34A3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AC30-0A1A-4BCB-82DD-A3C61A5D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4540-D24A-48BA-94EF-6DDB125C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6EE8-68AE-48A8-88C4-ADC1ABB7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1555-0BEC-4522-AE63-09EE3C19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4CC9-7771-4BEC-88AD-E34BA8FD9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gi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hyperlink" Target="mailto:COACHMUCHNICK@AOL.COM" TargetMode="External"/><Relationship Id="rId7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raduatedrivers.ca/images/front_header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388584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o what you are supposed to do.  Persevere and always do your b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3520" y="762120"/>
            <a:ext cx="815328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esponsibility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U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ALLENG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PHYSICAL EDUCATION ELECTIVE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AM WORK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IGH ELEMENT CLIMBING 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gn-u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OW with your Physical Education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048120" y="1981080"/>
          <a:ext cx="2293920" cy="97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1981080"/>
                    <a:ext cx="229392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1371600" y="4191120"/>
            <a:ext cx="1077840" cy="1214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3886200" y="4191120"/>
            <a:ext cx="1433520" cy="1133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6477120" y="4114800"/>
            <a:ext cx="137160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~ YOU MUST BE 15 YEARS OF AGE TO GET CERTIFIED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~ FOR THE 2009/2010 SCHOOL YEAR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* PHYSICAL EDUCATION ELECTIVE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IFEGUARD CER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CLUD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CPR – FIRST AID – A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447920" y="3276720"/>
          <a:ext cx="1218960" cy="97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3276720"/>
                    <a:ext cx="1218960" cy="97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3657600" y="3429000"/>
          <a:ext cx="1752480" cy="75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57600" y="3429000"/>
                    <a:ext cx="175248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 txBox="1"/>
          <p:nvPr/>
        </p:nvSpPr>
        <p:spPr>
          <a:xfrm>
            <a:off x="6477120" y="3352680"/>
            <a:ext cx="863640" cy="8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+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4203720"/>
            <a:ext cx="784872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YOU MUST TAKE THE WATER PRE-TE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) 300 yd. swim (100 of Free with rhythmic breathing &amp; Breaststrok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) Sprint 20yds. retrieve brick from bottom and return 20yds. (1:40 seconds max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Get to the High School Pool ASAP (you can use goggles for the 300 swim)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*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FIELDSTO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– TAKE THE ACTIVITY/SPORTS BUS TO THE HIGH SCHOOL 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**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GETTING HOM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– Get picked-up or NRHS can take the 9TH per. Bus home 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ATES FOR THE WATER TEST – Immediately after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bruary 10th (Tue) or 11th (Wed) or 12th (Thur) – after 3:00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The Water Testing will take less than 30 minu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act Coach Muchnick for mor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OACHMUCHNICK@AO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524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mericana BT"/>
              </a:rPr>
              <a:t>The Six Pillars of Charac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2514600"/>
            <a:ext cx="5105520" cy="4038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merican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a BT"/>
              </a:rPr>
              <a:t>Trustworthi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merican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a BT"/>
              </a:rPr>
              <a:t>Resp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merican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mericana BT"/>
              </a:rPr>
              <a:t>Respons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merican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a BT"/>
              </a:rPr>
              <a:t>Fair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merican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a BT"/>
              </a:rPr>
              <a:t>Ca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merican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a BT"/>
              </a:rPr>
              <a:t>Citizen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181480" y="2438280"/>
          <a:ext cx="3308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2438280"/>
                    <a:ext cx="3308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quality or state of being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able to be called on to answer (for yourself, something or some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le to answer for one's conduct and oblig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agree or disagree with the following statements? Explain your 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ng responsible is an important aspect of good charac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grades are not as important as the sport that I am involved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is responsible for the development of his or her own personal charac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ible people don't blame others or make excuses for their actions and choi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ad to Respons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a goal to use a planner for one month.  Stick to your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your biggest time-wasters…limit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you a “pleaser;” someone who says yes to everything?  If so, have the courage to say no today when it’s the right thing to 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have an important test in one week, don’t procrastinate and wait until the day before to study.  Suck it up and study a little each 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of something you’ve procrastinated for a long time but that’s very important.  Block out time this week to get it do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impact does peer pressure have on you?  Identify the person or people who have the most influence upon you.  Ask yourself, “Am I doing what I want to do, what they want me to do, or what is r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67652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705720" y="5122800"/>
            <a:ext cx="2438280" cy="18036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nual Extended"/>
              </a:rPr>
              <a:t>Are You a Responsible Person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/False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o what needs to be done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am reliable and dependable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am accountable for my actions; I don't make excuses or blame others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fulfill my moral obligations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use good judgment and think through the consequences of my actions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exercise self-control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 am/am not a responsible person because: ___________________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ing responsible puts you in charge of your life. 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8:49:28Z</dcterms:created>
  <dc:creator>North Rockland Schools</dc:creator>
  <dc:description/>
  <dc:language>en-US</dc:language>
  <cp:lastModifiedBy>North Rockland High School</cp:lastModifiedBy>
  <cp:lastPrinted>2009-01-20T11:51:34Z</cp:lastPrinted>
  <dcterms:modified xsi:type="dcterms:W3CDTF">2009-01-20T11:53:26Z</dcterms:modified>
  <cp:revision>3</cp:revision>
  <dc:subject/>
  <dc:title>Responsibility</dc:title>
</cp:coreProperties>
</file>